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A6A2-49D1-45BA-991F-552DA4113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EC09-71CE-4361-B1CF-4D222022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040D-8E48-4A76-B356-2E52CD4F8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05E8-6CCE-4252-B907-7F2D59C26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49F8-75B1-4BBD-A1F8-E4019824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2A43-9ECE-42A4-824F-7C662CE2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1DED-A6A0-4DAC-8476-6D1D6D59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4B2F-C602-48F7-BAE0-81DB373A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1F59-E0C7-4A41-AFBB-049079E5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EF2E-2A9A-4D39-8566-DC8AF12A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F15A-3DC7-45AE-B1AD-4EBCD7CC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B5A6-8A30-4F7F-A63B-BA09837B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06DB-2EDD-41BF-A687-4250C28855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5181480" cy="4124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Dppcxr   dppcxr.pa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838760" y="3430440"/>
            <a:ext cx="430524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33720" y="2438280"/>
            <a:ext cx="4952880" cy="3943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ppcgixos1.p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63626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ling</cp:lastModifiedBy>
  <dcterms:modified xsi:type="dcterms:W3CDTF">2009-07-21T01:58:2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